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1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40208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12500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12500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40208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40208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40208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40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0208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40208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40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50800" y="112500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33240" y="112500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40208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50800" y="40208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33240" y="40208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40208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68360" y="907920"/>
            <a:ext cx="8207280" cy="730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538200" y="2927520"/>
            <a:ext cx="8207280" cy="72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211640" y="6308640"/>
            <a:ext cx="493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FPGA &amp; Verilog ismertet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585800" y="3312720"/>
            <a:ext cx="640080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érés Laboratórium 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5391000"/>
            <a:ext cx="442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ántó Pé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ME Méréstechnika és Információs Rendszerek Tanszé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HDL nyelvek célj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rdver modell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két nyelv jelentős része csak a hardver funkciók modellezésére ill. szimulációra használh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ntetizálható részhalmaz szintézer függ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apuszintű modulokból építkező, kapcsolási rajzon alapuló tervezési módszerek levál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TL (Register Transfer Level) szintű leí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utomatikus hardver szintézis a leírásbó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vezői hatékonyság növel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DL nyelve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apvetően moduláris felépítésű tervezést tesz lehető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DL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-, kimenetek defini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-, kimenetek közötti logikai kapcsolatok és időzítések defini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szekvenciálisan végrehajtódó szoft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apvetően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őbe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árhuzamos, konkurrens működést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r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odul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2682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pítőelem” komplex rendszerek létrehoz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ierarchikus leírás, feladat partícioná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2212920"/>
          <a:ext cx="496764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212920"/>
                    <a:ext cx="496764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zintaktik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266840"/>
            <a:ext cx="849636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jegyzések (mint C-b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so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*    */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öbb so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stan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bitsz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‘alap&gt;&l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té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b00100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00100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m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rték: 4, 5 b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h4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11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m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is érték: 78, 8 b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’bZ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ZZZZ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gy im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nci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s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kapcsolt álla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Verilog: module (200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557360"/>
            <a:ext cx="2016360" cy="57456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ul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ulc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48360" y="1341360"/>
            <a:ext cx="2016360" cy="57492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ul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48360" y="2708280"/>
            <a:ext cx="2016360" cy="57456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odul bemen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ortj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8360" y="4076640"/>
            <a:ext cx="2016360" cy="57456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odul kimen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ortj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5734080"/>
            <a:ext cx="2016360" cy="57456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ndmodu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ulcssz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48360" y="5373720"/>
            <a:ext cx="2016360" cy="57456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ívá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unkcionalí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2060640"/>
            <a:ext cx="57636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635280" y="1628280"/>
            <a:ext cx="3168720" cy="10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68360" y="5589360"/>
            <a:ext cx="86364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00720" y="3068280"/>
            <a:ext cx="230328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508720" y="3068280"/>
            <a:ext cx="129528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92720" y="4076640"/>
            <a:ext cx="151128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4869000"/>
            <a:ext cx="338436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2708280"/>
            <a:ext cx="33130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odule test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nput cl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7:0] data_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 [7:0] data_ou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output reg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3716280"/>
            <a:ext cx="100800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Verilog: modu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3068640"/>
            <a:ext cx="511200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odule test(clk, data_in, data_out, val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nput cl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7:0] data_in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 [7:0] data_ou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output reg val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1557360"/>
            <a:ext cx="2016360" cy="57456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ul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ulc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276640"/>
            <a:ext cx="86508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1268280"/>
            <a:ext cx="2016000" cy="57492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ul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1268280"/>
            <a:ext cx="2016360" cy="57492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ort felsoro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típus nélk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16360" y="1988640"/>
            <a:ext cx="1295280" cy="10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00720" y="1989000"/>
            <a:ext cx="2376360" cy="11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6165720"/>
            <a:ext cx="2016000" cy="57492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ndmodu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ulcssz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332000" y="5661000"/>
            <a:ext cx="86364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5805360"/>
            <a:ext cx="2016000" cy="57492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ortok típusá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ad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27640" y="4076640"/>
            <a:ext cx="3529080" cy="165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Bitművelete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~, &amp;, |, ^, ~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e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ás, és, or, x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no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ktorokon bitenként értelmezett, p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b1101 &amp; 4’b0110 = 4’b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 két 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u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szélessége nem egyezik meg, a kisebbik az MSB biteken 0-val kiterjeszt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’b11 &amp; 4’b1101 = 4’b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gikai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perátoro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, &amp;&amp;, ||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t redukci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oper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r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vektor összes bitjén végeznek műveletet, eredményük egy bites ért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&amp;, ~&amp;, |, ~|, ^, ~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s, nem és, vagy, nem vagy, xor, xno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4’b1101 = 1’b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4’b1101 = 1’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ipikus alkalmazáso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láló végérték feltétel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aritásvizsgá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U művelet eredmény jelzé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Komparátor operátor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-szintakszissal megegyez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e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őség, nem egyenlő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=, !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gye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őség az „x, z” értékek figyelembevételé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!==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nem egyenlő, „x, z” figyelembevételé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hasonl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&lt;, &gt;, &lt;=, &g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ritmetikai operátor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-szintakszissal megegyez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perátorok: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+, -, *, /,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mindegyik szintetizálh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ntézer függő, de tipikusan az osztás pl. csak akkor, ha az osztó kettő hatv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gatív számok kettes komplemens kód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PGA-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PGA: Field Programmable Gate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ozható logikai áramkö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entősebb gyártók: Xilinx, Altera, Actel, Quicklogic, Lat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lemz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unkciót, működést a konfiguráció határozza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onfiguráció esetleg módosítható, törölhet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mplexi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50000 – 8000000 ka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00 – 600 I/O lá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00 – 400 MHz működés (terv függő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építés lehet pl. RAM alapú, MUX alap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Egyéb operátor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katenálás (összefűzés)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}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4’b0101, 4’b1110} = 8’b0101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ope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&lt;&lt;, 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válasz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artomány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z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fejezés konst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5: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dattípus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vének megfelelően viselkedik (vezeté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8 bites veze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k: wi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7:0] d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zin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zis utáni eredmény nem mindig regisz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zet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lip-f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: re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7:0] d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26648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assig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nal csak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wir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típusú változónak lehet értéket ad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lyamatos értéka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bal oldali változó folyamatosan kiértékelő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ssign 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 &amp;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változó csak egy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assig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által kaphat érté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assig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rtékadások egymással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árhuzamosa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űködnek (hard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mbinációs logika leírására alkal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3645000"/>
          <a:ext cx="317016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645000"/>
                    <a:ext cx="3170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blok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zintaksz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változó lehetőleg csak egy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alway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blokkban kapjon érté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alway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blokk nem lehet érzékeny a saját kimeneté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alway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blokkon belül ne használjunk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assign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tékad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alway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blokkok egymással (és az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assig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típusú értékadásokkal)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árhuzamosa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űköd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1773360"/>
            <a:ext cx="1943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…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08360" y="2133720"/>
            <a:ext cx="2016000" cy="57456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rzékenységi 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68360" y="2133720"/>
            <a:ext cx="12956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08360" y="2924280"/>
            <a:ext cx="2016000" cy="57456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lokkon belü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űve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2781360"/>
            <a:ext cx="194472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lways – értékadá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lokkoló értékadás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értékelődéséig blokkolja az utána következő értékadásokat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szekvenciális utasítás végrehaj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-blokkoló értékadás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&l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em-blokkoló értékadások párhuzamosan hajtódnak vé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lokkoló – nem-blokkoló példa késő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em-blokkoló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rtékadás használata javaso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lways – Flip Flo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lip Flop: élérzékeny tárol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zinkron 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zinkron 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00720" y="1773360"/>
          <a:ext cx="418464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773360"/>
                    <a:ext cx="418464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79280" y="3141720"/>
            <a:ext cx="396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&lt;= 1'b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&lt;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1773360"/>
            <a:ext cx="396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&lt;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43280" y="3141720"/>
          <a:ext cx="39531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141720"/>
                    <a:ext cx="39531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79280" y="5229360"/>
            <a:ext cx="396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, posedge 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&lt;= 1'b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&lt;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859280" y="5229360"/>
          <a:ext cx="4070520" cy="126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5229360"/>
                    <a:ext cx="4070520" cy="12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lways – Flip Flo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linx FPGA-k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reset, set lehet szinkron, illetve aszink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nkron eset prioritá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set, set,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szinkron reset/set pél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3573360"/>
            <a:ext cx="39610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, posedge rst, posedge 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&lt;= 1'b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se if (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&lt;= 1'b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se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if (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&lt;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211640" y="3860640"/>
          <a:ext cx="4932360" cy="16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3860640"/>
                    <a:ext cx="4932360" cy="16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lways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mb. lo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em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letesen: kombinációs logika esetén a kimenet bármelyik bemenet bármilyen változásánál kiértékelőd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2637000"/>
            <a:ext cx="2664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&lt;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140360" y="3357720"/>
          <a:ext cx="317016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3357720"/>
                    <a:ext cx="3170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00000" y="3789360"/>
            <a:ext cx="2664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&lt;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lways – 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atch: szintvezérelt tároló: amíg a „gate” bemenete ‘1’, addig mintavételezi az adatbemenete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2492280"/>
            <a:ext cx="2159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&lt;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635280" y="2421000"/>
          <a:ext cx="5265720" cy="13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421000"/>
                    <a:ext cx="526572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lways – latch hib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 “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élet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létreho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m teljes “if”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va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zerkez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intézer általában figyelmez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249228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case (s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’b00: r &lt;= in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’b01: r &lt;= i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’b10: r &lt;= i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nd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297240" y="2565360"/>
          <a:ext cx="58467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97240" y="2565360"/>
                    <a:ext cx="58467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395280" y="4365720"/>
            <a:ext cx="23763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sel=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in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se if (sel=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i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se if (sel=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i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Xilinx FPGA-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öbb csalá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partan: hatékony, optimalizált stru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rtex: speciális funkciók, gyorsabb, komplexebb, gazdagabb funkcionali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épít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LB: logikai blok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OB: I/O blok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lokkRAM: belső 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orz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uzaloz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76720" y="3395520"/>
            <a:ext cx="58672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lways – hely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elyes 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1773360"/>
            <a:ext cx="23763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case (s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’b00: r &lt;= in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’b01: r &lt;= i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’b10: r &lt;= i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default: r &lt;= ‘b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nd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5640" y="4076640"/>
            <a:ext cx="23763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sel=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in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se if (sel=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i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i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492360" y="2852640"/>
          <a:ext cx="5508720" cy="19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852640"/>
                    <a:ext cx="550872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Blokkoló – nem blokkoló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2997360"/>
            <a:ext cx="3384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&lt;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t |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1125360"/>
            <a:ext cx="3384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= t |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708360" y="3357720"/>
          <a:ext cx="518472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3357720"/>
                    <a:ext cx="518472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635280" y="1413000"/>
          <a:ext cx="529128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1413000"/>
                    <a:ext cx="52912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79280" y="4941720"/>
            <a:ext cx="3384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= t |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708360" y="5229360"/>
          <a:ext cx="5184720" cy="97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5229360"/>
                    <a:ext cx="518472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Blokkoló – nem blokkoló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1916280"/>
            <a:ext cx="3384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t |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708360" y="2276640"/>
          <a:ext cx="529128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276640"/>
                    <a:ext cx="52912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79280" y="3860640"/>
            <a:ext cx="3384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&lt;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= t |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708360" y="4149720"/>
          <a:ext cx="5184720" cy="97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518472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Blokkoló – nem blokkoló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1700280"/>
            <a:ext cx="26640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2, s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2 &lt;= in0 + i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3 &lt;= s2 + in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1700280"/>
            <a:ext cx="26654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0, s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0 = in0 + i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1 = s0 + in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26648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 3 bemenetű összead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27640" y="1700280"/>
            <a:ext cx="26640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4 &lt;= in0 + in1 + i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419640" y="4005360"/>
          <a:ext cx="26193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4005360"/>
                    <a:ext cx="2619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6227640" y="4005360"/>
          <a:ext cx="2619360" cy="14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4005360"/>
                    <a:ext cx="26193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68360" y="4005360"/>
          <a:ext cx="2619360" cy="170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005360"/>
                    <a:ext cx="2619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trukturális leírá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266840"/>
            <a:ext cx="844704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ierarchia felépítése: modulok összekapcso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hetséges a jelnevek egyszerű, a port pozíció szerinti felsorolása is, de ez esetleg hibát okozhat, ezért kerüljü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1773360"/>
            <a:ext cx="78483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top_level (input in0, in1, in2, output 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wire xor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or_m xor_inst0(.i0(in0), .i1(in1), .o(xor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or_m xor_inst1(.i0(xor0), .i1(in2), .o(r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332000" y="4941720"/>
            <a:ext cx="600084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da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– MU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1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26648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:1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1844640"/>
            <a:ext cx="7848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ux_2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in0, in1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output 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ssign 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(sel==1’b1) ? in1 : in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1280" y="2852640"/>
            <a:ext cx="78483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ux_2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in0, in1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output reg 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sel==1’b1) r &lt;= i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se               r &lt;= in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4437000"/>
            <a:ext cx="7848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ux_2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in0, in1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output reg 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se(s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b0: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in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’b1: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i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da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– MU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2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26648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1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184464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ux_4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in0, in1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n2, in3, inp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0]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output reg 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se(s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b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r &lt;= in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b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r &lt;= i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b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r &lt;= i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b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r &lt;= in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564000" y="2268360"/>
          <a:ext cx="55800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268360"/>
                    <a:ext cx="55800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da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bites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összead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197000"/>
            <a:ext cx="7848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dd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a, b, cin, output cout, 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or3_m xor(.i0(a), .i1(b), .i2(cin), .o(s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re a0, a1,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2_m and0(.i0(a), .i1(b), .o(a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2_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1(.i0(a), .i1(cin), .o(a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2_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2(.i0(b), .i1(cin), .o(a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3_m or(.i0(a0), .i1(a1), .i2(a2) , .o(cou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3645000"/>
            <a:ext cx="7848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dd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a, b, cin, output cout, s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ign s = a ^ b ^ c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ign cout = (a &amp; b) | (a &amp; cin) | (b &amp; c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5013360"/>
            <a:ext cx="7848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dd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a, b, cin, output cout, 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ign {cout, s} = a + b + c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da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bites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összead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197000"/>
            <a:ext cx="78483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add4 (input [3:0] a, b, output [4:0] 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re [3:0] cou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1_full add0(.a(a[0]), .b(b[0]), .cin(1'b0),    .cout(cout[0]), .s(s[0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1_full add1(.a(a[1]), .b(b[1]), .cin(cout[0]), .cout(cout[1]), .s(s[1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1_full add2(.a(a[2]), .b(b[2]), .cin(cout[1]), .cout(cout[2]), .s(s[2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1_full add3(.a(a[3]), .b(b[3]), .cin(cout[2]), .cout(s[4]),    .s(s[3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3573360"/>
            <a:ext cx="7848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add4 (input [3:0] a, b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nput cin, output cout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 [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0] s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{cout, sum}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a + b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+ ci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da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bites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összead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st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2938320" cy="5589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924360" y="1125360"/>
            <a:ext cx="465768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Xilinx FPGA: Alap logikai e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ogikai elem (Slice): 2 LUT + 2 FF + kiegészítő log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UT: Look-Up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6x1 bites 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ím: a logikai függvény bemeneti változó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artalom: Karnaugh tá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ármilyen négy bemenetű, egy kimenetű logikai függvény megvalósíth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43280" y="1700280"/>
          <a:ext cx="484020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700280"/>
                    <a:ext cx="484020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da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bites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összead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3953160" cy="4762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211640" y="1052640"/>
            <a:ext cx="47973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élda: Shift regisz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6 bites shift regisz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71640" y="2133720"/>
            <a:ext cx="784836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h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clk, sh, din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[15:0]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h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r &lt;= {shr[14: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], din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ssign dout = shr[15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élda: Számlál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nkron reset-elhető, engedélyezhetően tölthető le/fel számlál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00000" y="1916280"/>
            <a:ext cx="784872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m_cntr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(input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k,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e, load, di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input  [7:0]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[7:0]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u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g [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0]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ntr_reg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ntr_reg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else if (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if (lo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ntr_reg &lt;= d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else if (di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ntr_reg &lt;= cntr_reg –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ntr_reg &lt;= cntr_reg +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ssign dout =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ntr_reg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élda: Másodperc számlál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50 MHz bemeneti órajel, 1 sec = 50 000 000 óraj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00000" y="1557360"/>
            <a:ext cx="7417080" cy="520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ec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(input clk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 output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[6:0] d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reg [25:0] clk_div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wire t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If (r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lk_div &lt;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if (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lk_div &lt;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lk_div &lt;= clk_div +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ssign tc = (clk_div == 49999999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reg [6:0] sec_cn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If (r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ec_cntr &lt;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else if (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if (sec_cntr==5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ec_cntr &lt;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ec_cntr &lt;= sec_cntr +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ssign dout = sec_cn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áromállapotú vonala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irányú kommunikációs vonalak,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ső memóriák adatbu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irányú vonalak meghajtását engedélyező jel (bus_drv) kriti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6920" y="2492280"/>
            <a:ext cx="792180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tri_state (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nput clk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out [7:0] data_io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re [7:0] data_in, data_ou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re bus_dr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ign data_in = data_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ign data_io = (bus_drv) ? data_out : 8’b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SM – Finite State Mach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lapotgép – vezérlési szerkezetek kialak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talános stru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ate register: állapotváltoz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xt state funkction: következő állapotot dekódoló log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utput func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meneti jeleke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őállító log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ore: állapotváltozó alapj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aly: állapotváltozó + bemenetek alapj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476360" y="1916280"/>
          <a:ext cx="5783400" cy="22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16280"/>
                    <a:ext cx="578340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SM pél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zlekedési lá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lapotok: piros, sárga, zöld, piros-sárga (a villogó sárga nem implementá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meneti változók: időzítő az egyes állapotok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menet: az álla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987640" y="3284640"/>
          <a:ext cx="3168720" cy="30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284640"/>
                    <a:ext cx="3168720" cy="30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SM példa – Verilog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8360" y="1197000"/>
            <a:ext cx="3311640" cy="538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amp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k, rst,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e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:0] le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ameter PIROS     = 2'b0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ameter PS  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'b0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ameter ZOLD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'b1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ameter SARGA    = 2'b1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[15:0] timer_ps, timer_p, timer_s, timer_z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[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0] state_re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[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0] next_sta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r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_reg &lt;= PIR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_reg &lt;= next_sta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24360" y="1197000"/>
            <a:ext cx="4751280" cy="538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@ (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(state_re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ROS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timer =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P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PIR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timer =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ZOL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P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GA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timer =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PIR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SARG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LD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timer =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SARG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ZOL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aul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3'bxx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SM példa – Verilog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0920" y="1268280"/>
            <a:ext cx="4032000" cy="502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@ (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posedge cl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(state_re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ROS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timer =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imer &lt;= 500;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P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imer &lt;= timer -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timer =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imer &lt;= 4000;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ZOL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imer &lt;= timer -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GA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timer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imer &lt;= 4500;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PIR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imer &lt;= timer -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LD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timer =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imer &lt;= 500;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SARG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imer &lt;= timer -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0" y="1125360"/>
            <a:ext cx="41752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dőzít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lapotváltáskor egy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lapotfüggő kezdő-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téket tölt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felé szá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==0: állapotvál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4365720"/>
            <a:ext cx="4032360" cy="19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@ (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(state_re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:    led &lt;= 3'b11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ROS: led &lt;= 3'b10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GA: led &lt;= 3'b01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LD:  led &lt;= 3'b00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zimuláci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stbench: ISE két lehetőséget biztos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stbench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rafikus felületen megadható bemene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rilog Test F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rilog kódban megírt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mul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SE szimul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delsim (MX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Xilinx FPGA-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észlet egy kész tervből: logikai blokkok + huzaloz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820872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Verilog Test Fix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st F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est Fixture 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y Verilog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esztelendő modul almodulként van beilleszt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, a szintézisnél használt nyelvi elem felhasználh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szintetizálható nyelvi elem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dőa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cale 1ns/1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dott id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ők ns-ban értend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mulációs lépésköz: 1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Test Fixture - init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itial” blok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0. időpillanatban kezdődik a végrehaj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szer fut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„initial” blokkok egymással, és az „always” blokkokkal párhuzamosan működ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„initial” blokkon belüli késleltetések összeadódnak,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8360" y="3789360"/>
            <a:ext cx="26636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ni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&lt;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10 a &lt;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25 a &lt;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5   a &lt;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780000" y="4221000"/>
          <a:ext cx="453708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4221000"/>
                    <a:ext cx="45370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Test Fixture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Órajel generá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Órajelre működő bemenet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l. sz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mlál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1557360"/>
            <a:ext cx="81360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k &lt;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lw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k &lt;= ~cl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3860640"/>
            <a:ext cx="8136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nitial cnt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lw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2 cntr &lt;= cntr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556000" y="4941720"/>
          <a:ext cx="4608360" cy="16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4941720"/>
                    <a:ext cx="4608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Xilinx FPGA-k: a logikai elem részlete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9532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Xilinx FPGA: konfiguráci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onfigurációt (LUT tartalom, huzalozás, csatlakozások, egyéb paraméterek) SRAM táro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ápfeszültség kikapcsolásakor elveszíti a konfiguráció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kapcsolás után konfiguráció szüksé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EPROM-ból, automatiku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jlesztői kábel segítségével ún. JTAG porton keresztü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zabván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DL nyelve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abvány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description languag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 nyel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4: Gateway Design Automatio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0: Cadence -&gt; Open Verilog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5: IEEE szabv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ny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001: Verilog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983-85: IBM, Texas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987: IEEE szabv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994: VHDL-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Egyéb H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DL fejlesztés a szoftver fejlesztéshez viszonyítva továbbra is időigén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ok fejlesztő rendelkezik C/C++ ismerettel, viszonylag kevés HDL ismeret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gasszintű hardver leíró nyel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eloxica Handel-C: C alapú, spec. kiegészít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ystemC: szabványos, ma már (részben) szintetizálható, C++ alap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ntor Catapult-C: C++ kiegészítések nélkü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orsabb szimuláció/verifik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W/SW együttes terv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4:22:32Z</dcterms:created>
  <dc:creator>Szántó Péter</dc:creator>
  <dc:description/>
  <dc:language>en-US</dc:language>
  <cp:lastModifiedBy>Szántó Péter</cp:lastModifiedBy>
  <dcterms:modified xsi:type="dcterms:W3CDTF">2006-09-23T17:10:12Z</dcterms:modified>
  <cp:revision>269</cp:revision>
  <dc:subject/>
  <dc:title>HDL nyelvek</dc:title>
</cp:coreProperties>
</file>